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0EA-476A-4E88-AE0F-616FCE4A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6F2-F311-4316-8AA1-3811AED4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0BA-7379-42B3-A9B1-F9755B6B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EDC-D243-460C-ADF4-642B3F46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C17-D5A2-49AD-902C-46A9155F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E3C-281B-43BC-B5AC-A8F8B377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BED-94B1-4B64-A955-95063531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9E3-36A6-4F24-A8DE-E319EE90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A7A-16C4-4A40-869D-AE9847D2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A6F-672A-433F-B924-402AF859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A6F-BEC9-47FD-A46A-68C42E1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D17-AFCC-47FC-8142-59BA7BF1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5950-1A8B-496B-9DC3-69C167839C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FFFA-1049-465C-8862-C8FF0F140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D75-2627-4E29-AC88-7B6B8E5C4B8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CE8F6-5111-45A4-B01B-6988A5DF16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Hovedregel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t skal alltid brukes systemkor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Par som mangler fullstendig utfylt systemkort tildeles prosedyrestraff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Tillatte systemkor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ltakerne kan fritt benytte NBF sitt standard systemkort , WBF sine systemkort   eller andre fullstendige kort med minst samme opplysninger på forsiden som NBF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Utfylling av systemkorte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være fullstendig utfylt, det skal ha (eller være merket med) rett farge og eventuelle HUK skal være beskrevet på eget brunt vedlegg sammen med et forslag til forsvar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En meldings mulige fordeling skal beskrives ved å angi  grensene for fargelengder, og styrkegrensene skal angis ved Hp-intervall</a:t>
            </a: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ulige unntaksvise avvik på ett kort eller 2Hp eller mer skal alltid markeres på kortet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685-A27E-47A5-98D5-C3ECADC5D7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48064-5B4A-4526-BD13-3A68B193CF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sykiske meldinger / Referanselitteratu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nkelte makkerpar bruker psykiske meldinger eller andre avvik fra systemdeklarasjonen så ofte at de reelt er del av makkeravtalen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like makkeravtaler skal føres på systemkortet, og de er underlagt reglene dersom de er HUM eller HUK. 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TL bør tilkalles når det har forekommet psykiske meldinger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systemkortet er basert på en mer omfattende systemdeklarasjon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bok eller lignende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bør referanse til denne skrives på kortet, slik at spørsmål om feil melding/feil forklaring lettere kan utredes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1FB-0D37-4896-AB4B-B705CE522C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C6FF8-71E4-4053-8266-1475EF742E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siden av systemkortet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Alle plikter å  kjenne opplysningene på forsiden av motpartens systemkort. Det skal gi informasjon om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unnsystem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andåpningens styrkeintervall, mulige fordelinger samt svarene på 2 trinnet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Hvor langt 2 over 1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Åpning i minor og senere melding av minor som kan gjøres på trekortsfarg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rut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Doblingers betyd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Spillkonvensjoner og signal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F36-23F2-4467-A5EC-A42020CAD7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C8B58-6D8F-4FFD-84BF-E6C9FD224B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er om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orhåndsutfylte 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BF vil forhåndsutfylle et systemkort for et svært enkelt naturlig system.. Dette systemet skal brukes av spillere som ikke har fullstendig utfylt kort, inntil et eget kort er utfyl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ruk av systemkort under spille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pillerne har anledning til å studere motpartens systemkort når de er i tur for å melde eller spille, men ikke sitt eg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ersom arrangøren med utdelte kort har fastsatt turneringens system(er), så har spillere lov til å studere også sitt eget systemkort. Det samme gjelder spillere som av turneringsleder er pålagt å spille med forhåndsutfylt kor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Kurs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ybegynnere med kurssystemkort som er påført navn og utstedelsesdato og er signert av kursets ansvarlige, kan studere sitt eget systemkort under meldingsforløpet i alle turneringer i inntil 1 år fra datoen på kort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D65-D5CE-4ACF-9C2D-B884629F93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E7738-5FC1-492A-939B-846018EE8A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ølgen av avvik fra systemkortets beskrivelse av meldingen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vvik fra systemkortets grenser for styrke og fordeling for en melding, kan være en skjult makkeravtale og er derfor et mulig brudd på reglen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"Strekking av grensene" etter en bridgemessig vurdering er ofte egentlig en endring av systemet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avvik kan medføre justert score, prosedyrestraff og pålegg om å rette systemkort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ridgemessige vurderinger bør godtas som grun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avviket ikke er på mer enn 1 poeng i parets poengsystem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 avviket ikke er på mer enn  et kort i en fargelengde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inste fargelengde i åpning eller definerte innhopp skal være rikti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”avvik” må ikke brukes til å overskride viktige grenser som f.eks ”en konge eller mer mindre enn en gjennomsnittshånd”, ”kort farge – lang farge”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t utilsiktet avvik fra systemkortets beskrivelser, f.eks p.g.a feiltelling eller lignende, skal ikke straff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BF0-ADF1-4A6D-BA2E-D8F71BC129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16584-E1AB-4BE7-9F3F-F7E72633B3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ksempler på reaksjon fra TL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forekommet et avvik fra poenggrenser, avviket bringer ikke systemet ut av den aktuelle systemkategorien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rettes. Spillet kan bli justert dersom motparten er skadelidende. Prosedyrestraff vurder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er registrert et avvik som betyr at systemet etter avviket skal plasseres i en annen kategori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Makkerparet må enten rette systemkategorien eller endre bruken av den aktuelle meldingen. Spillet kan bli justert dersom motparten er skadelidende. Prosedyrestraff tildel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En melding som er deklarert som 11-19 , blir avgitt på en hånd med 9 Hp. Det blir forklart at meldingen unntaksvis kan vise ned till 8 Hp og opp til 21 Hp avhengig av fordeling og kvalitet på de andre korten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TL pålegger at poeng rettet til 11(8) - 19(21), tildeler prosedyrestraff for ufullstendig systemkort og justerer spillet hvis motparten er skadelidende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DE7-4B78-4229-8D07-EF26B9012D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F5FE6-148D-4DDE-AED5-EEF90C9635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0:17:38Z</dcterms:created>
  <dc:creator>Per Nordland</dc:creator>
  <dc:description/>
  <dc:language>en-US</dc:language>
  <cp:lastModifiedBy>Per Nordland</cp:lastModifiedBy>
  <dcterms:modified xsi:type="dcterms:W3CDTF">2002-03-30T18:07:18Z</dcterms:modified>
  <cp:revision>2</cp:revision>
  <dc:subject/>
  <dc:title>Regler for bruk av systemkort</dc:title>
</cp:coreProperties>
</file>